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52DC-E4A1-4584-A184-63B67834C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DA5A-FCFD-49BC-869B-F6C6C7894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61C5-4EBE-4349-904E-F225C2888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5EF9-1645-40D3-AC06-59F2909F8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4363-2420-472E-AAB8-63F85AE3E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7B03-BCDF-4AA9-8CF7-18DD48253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73C3-0C87-4547-A8D0-A794A4F2F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B827-F8AB-4266-B11E-4D524431A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1E15-4185-41D8-95E9-075C08CB9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D396-DADE-436D-A96A-23A1E4C6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4076-FF5E-40B0-BE74-34784C35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0213-480B-4BA2-8B12-1D0BA9AB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30E32-AB6E-4676-820B-A77383B6B3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believe in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oly Source of all that 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believe in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o has spoken the eternal Wor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Jesus Chri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believe in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easelessly breathing the Spiri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to cre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1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trust in God’s lov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wisdom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ully revealed in the humanit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f Jesus Chris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present to u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rough the Spirit’s wor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the Church and beyo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2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believe that God is call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whole cre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to a future of justice and pea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3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share in Christ’s risen lif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commit ourselves toda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o rece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coming reign of Go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4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o the only God, Three yet On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e all honour and glory and pra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now and for ever. 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5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3:08:39Z</dcterms:created>
  <dc:creator>Anon Anon</dc:creator>
  <dc:description/>
  <dc:language>en-US</dc:language>
  <cp:lastModifiedBy>Anon Anon</cp:lastModifiedBy>
  <dcterms:modified xsi:type="dcterms:W3CDTF">2005-08-09T05:03:36Z</dcterms:modified>
  <cp:revision>7</cp:revision>
  <dc:subject/>
  <dc:title>PowerPoint Presentation</dc:title>
</cp:coreProperties>
</file>